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7A3-E1B1-478A-B16B-1790B786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7AFB-CD1C-409D-B482-BBDFF915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260-334D-420F-9778-BAC4ECC3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8CD-FDC1-4E2A-9B6C-BE684798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6A3-2F9D-4E6E-86C8-AD6318D8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D53-3BDA-487A-ACE0-48784992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D4A-677A-49B7-9BB1-0BEA2301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E6A0-8FC7-4AC3-BC0C-090B4919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7137-D1A8-422B-9877-A90D3464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9D34-5862-4F72-B4E3-63775DA8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4A0-33E6-4701-B8C9-35986617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8421-6993-49FA-9024-AA95694D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A31B-10C5-4645-9ACC-D87BA76FA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2661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68691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657360" y="1800360"/>
            <a:ext cx="7829280" cy="32572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900000" y="2979720"/>
            <a:ext cx="4392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سرعات في مسيره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900000" y="4059360"/>
            <a:ext cx="43927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أرسلت بالمعروف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900000" y="3500280"/>
            <a:ext cx="439272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تنزع أرواح الكف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7308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خفض الجناح كناية عن المبالغة في التواضع و الخضوع قولا و فعلا مأخوذ من خفض فرخ الطائر جناحه ليستعطف أمه لتغذيته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0" y="981000"/>
            <a:ext cx="911700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108000" y="2681280"/>
            <a:ext cx="8867880" cy="81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-15840" y="4375080"/>
            <a:ext cx="8867880" cy="70956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324000" y="3500280"/>
            <a:ext cx="85993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مر الله بأداء الأمانة سواء العبادات أو الواجبات أو ما أتمنك عليه الناس على أصح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عنوان 1"/>
          <p:cNvSpPr/>
          <p:nvPr/>
        </p:nvSpPr>
        <p:spPr>
          <a:xfrm>
            <a:off x="250920" y="5286240"/>
            <a:ext cx="860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كَلَّم وأنت معرض تكبراً ولا تمش خُيَلَاء مُتَكَبِّرًا جَبَّارًا عَنِيدً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570560" y="1052640"/>
            <a:ext cx="4317840" cy="93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6342120" y="3357720"/>
            <a:ext cx="2387520" cy="502920"/>
          </a:xfrm>
          <a:prstGeom prst="rect">
            <a:avLst/>
          </a:prstGeom>
          <a:ln w="0">
            <a:noFill/>
          </a:ln>
        </p:spPr>
      </p:pic>
      <p:sp>
        <p:nvSpPr>
          <p:cNvPr id="114" name="عنوان 1"/>
          <p:cNvSpPr/>
          <p:nvPr/>
        </p:nvSpPr>
        <p:spPr>
          <a:xfrm>
            <a:off x="250920" y="218916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بد : الذي هو الخبث الذي يظهر فوق ال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فاء : الغلظة وقسوة القلب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وان 1"/>
          <p:cNvSpPr/>
          <p:nvPr/>
        </p:nvSpPr>
        <p:spPr>
          <a:xfrm>
            <a:off x="250920" y="3989520"/>
            <a:ext cx="86011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باساً : ساترا لكم بظلامه كاللب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شاً : تحصلون فيه ما تعيشو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8" name="عنوان 1"/>
          <p:cNvSpPr/>
          <p:nvPr/>
        </p:nvSpPr>
        <p:spPr>
          <a:xfrm>
            <a:off x="250920" y="2708280"/>
            <a:ext cx="8642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خاصم الزبير رجلا من الأنصار في شريج من الحر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نبي صلى الله عليه وسلم اسق يا زبي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أنصاري يا رسول الله أن كان ابن عمت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تلون وجه رسول الله صلى الله عليه وسلم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ثم قال اسق يا زبير ثم احبس الماء حتى يرجع إلى الجد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توعى النبي صلى الله عليه وسلم للزبير حقه في صريح الحكم حين أحفظه الأنصاري كان أشار عليهما بأمر لهما فيه سع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قال الزبير فما أحسب هذه الآيات إلا نزلت في ذل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331920" y="981000"/>
            <a:ext cx="86072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331920" y="1000080"/>
            <a:ext cx="8561160" cy="5742000"/>
          </a:xfrm>
          <a:prstGeom prst="rect">
            <a:avLst/>
          </a:prstGeom>
          <a:ln w="0">
            <a:noFill/>
          </a:ln>
        </p:spPr>
      </p:pic>
      <p:sp>
        <p:nvSpPr>
          <p:cNvPr id="123" name="عنوان 1"/>
          <p:cNvSpPr/>
          <p:nvPr/>
        </p:nvSpPr>
        <p:spPr>
          <a:xfrm>
            <a:off x="4611600" y="297036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ف أهل التأويل في تأويل قوله :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4" action="ppaction://hlinksldjump"/>
              </a:rPr>
              <a:t>جعل الليل والنهار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5" action="ppaction://hlinksldjump"/>
              </a:rPr>
              <a:t>خلفة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 action="ppaction://hlinksldjump"/>
              </a:rPr>
              <a:t>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فقال بعضهم : معناه : أن الله جعل كل واحد منهما خلفا من الآخر ، في أن ما فات أحدهما من عمل يعمل فيه لله ، أدرك قضاؤه في الآخر . </a:t>
            </a:r>
            <a:br>
              <a:rPr sz="2000"/>
            </a:b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قوله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7" action="ppaction://hlinksldjump"/>
              </a:rPr>
              <a:t>لمن أراد أن يذكر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يقول تعالى ذكره : جعل الليل والنهار ، وخلوف كل واحد منهما الآخر حجة وآية لمن أراد أن يذكر أمر الله ، فينيب إلى الحق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8" action="ppaction://hlinksldjump"/>
              </a:rPr>
              <a:t>أو أراد شكورا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أو أراد شكر نعمة الله التي أنعمها عليه في اختلاف الليل والنهار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63600" y="292428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َخْلُف كُلّ وَاحِد مِنْهُمَا صَاحِبه يَتَعَاقَبَانِ لَا يَفْتُرَانِ إِذَا ذَهَبَ هَذَا جَاءَ هَذَا وَإِذَا جَاءَ هَذَا ذَهَبَ ذَاكَ كَمَا قَالَ تَعَالَى" وَسَخَّرَ لَكُمْ الشَّمْس وَالْقَمَر دَائِبَيْنِ " الْآيَ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َقَوْله تَعَالَى " لِمَنْ أَرَادَ أَنْ يَذَّكَّرَ أَوْ أَرَادَ شُكُورًا " أَيْ جَعَلَهُمَا يَتَعَاقَبَانِ تَوْقِيتًا لِعِبَادَةِ عِبَاده لَهُ عَزَّ وَجَلَّ فَمَنْ فَاتَهُ عَمَل فِي اللَّيْل اِسْتَدْرَكَهُ فِي النَّهَار وَمَنْ فَاتَهُ عَمَل فِي النَّهَار اِسْتَدْرَكَهُ فِي اللَّيْل وَقَدْ جَاءَ فِي الْحَدِيث الصَّحِيح " إِنَّ اللَّه عَزَّ وَجَلَّ يَبْسُط يَده بِاللَّيْلِ لِيَتُوبَ مُسِيء النَّهَار وَيَبْسُط يَده بِالنَّهَارِ لِيَتُوبَ مُسِيء اللَّيْل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12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6328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917568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41200" y="2206800"/>
            <a:ext cx="86598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تبة التفسير وعلوم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هم برنامج خدم مجال التف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مجلداته الحاسوبية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25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ات برنامج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رابط مستقيم 17"/>
          <p:cNvSpPr/>
          <p:nvPr/>
        </p:nvSpPr>
        <p:spPr>
          <a:xfrm flipH="1">
            <a:off x="4571640" y="2924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رابط مستقيم 18"/>
          <p:cNvSpPr/>
          <p:nvPr/>
        </p:nvSpPr>
        <p:spPr>
          <a:xfrm flipH="1">
            <a:off x="4566960" y="3182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19"/>
          <p:cNvCxnSpPr/>
          <p:nvPr/>
        </p:nvCxnSpPr>
        <p:spPr>
          <a:xfrm flipH="1">
            <a:off x="8456040" y="3789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3645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أحكا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31"/>
          <p:cNvSpPr/>
          <p:nvPr/>
        </p:nvSpPr>
        <p:spPr>
          <a:xfrm>
            <a:off x="8820000" y="3174840"/>
            <a:ext cx="0" cy="201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32"/>
          <p:cNvCxnSpPr/>
          <p:nvPr/>
        </p:nvCxnSpPr>
        <p:spPr>
          <a:xfrm flipH="1">
            <a:off x="8456040" y="3499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324000" y="3306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35"/>
          <p:cNvCxnSpPr/>
          <p:nvPr/>
        </p:nvCxnSpPr>
        <p:spPr>
          <a:xfrm flipH="1">
            <a:off x="8456040" y="4179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4005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غريب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37"/>
          <p:cNvCxnSpPr/>
          <p:nvPr/>
        </p:nvCxnSpPr>
        <p:spPr>
          <a:xfrm flipH="1">
            <a:off x="8456040" y="45165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436572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و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9"/>
          <p:cNvCxnSpPr/>
          <p:nvPr/>
        </p:nvCxnSpPr>
        <p:spPr>
          <a:xfrm flipH="1">
            <a:off x="8458920" y="48578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5600" y="4681440"/>
            <a:ext cx="8209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م القراء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41"/>
          <p:cNvCxnSpPr/>
          <p:nvPr/>
        </p:nvCxnSpPr>
        <p:spPr>
          <a:xfrm flipH="1">
            <a:off x="8458920" y="5194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5600" y="5041800"/>
            <a:ext cx="8209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إعراب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يمكن البحث من خلال إحدى الوسائل التالية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35"/>
          <p:cNvSpPr/>
          <p:nvPr/>
        </p:nvSpPr>
        <p:spPr>
          <a:xfrm flipH="1">
            <a:off x="4571640" y="1916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36"/>
          <p:cNvSpPr/>
          <p:nvPr/>
        </p:nvSpPr>
        <p:spPr>
          <a:xfrm flipH="1">
            <a:off x="4566960" y="2174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 flipH="1">
            <a:off x="8456040" y="2781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6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نص من عدة مفردات قرآنية متتالية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9"/>
          <p:cNvSpPr/>
          <p:nvPr/>
        </p:nvSpPr>
        <p:spPr>
          <a:xfrm>
            <a:off x="8820000" y="216684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40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298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كلمة من مفردات ألفاظ القرآن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42"/>
          <p:cNvCxnSpPr/>
          <p:nvPr/>
        </p:nvCxnSpPr>
        <p:spPr>
          <a:xfrm flipH="1">
            <a:off x="8456040" y="31719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250920" y="2997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عدة مفردات متباعدة مرتبطة بالواو أو بـ (أو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3438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كلمة من مفردات ألفاظ القرآن يراد معرفة تفسيرها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ة (تبار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نص من عدة مفردات قرآنية متتالية يراد معرفة تفسيرها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092400" y="4454640"/>
            <a:ext cx="5727600" cy="48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5084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عدة مفردات متباعدة مرتبطة بالواو أو بـ (أو)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غثاءً وجفاءً وسباتاً ولباساً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 : يمكن البحث في كل المجلدات المتاحة أو تحديد نطاق معين كتفسير ابن كثير فقط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179280" y="213372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 : يمكن المقارنة بين كتابين من كتب التفسير في تفسير آية معي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2708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 ملاحظة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مكانية طباعة النص ونسخه في كل ما سب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4088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3658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594972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HI</cp:lastModifiedBy>
  <dcterms:modified xsi:type="dcterms:W3CDTF">2011-07-11T11:04:51Z</dcterms:modified>
  <cp:revision>0</cp:revision>
  <dc:subject/>
  <dc:title/>
</cp:coreProperties>
</file>